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a-DK" sz="6000" spc="-1" strike="noStrike" u="sng">
                <a:solidFill>
                  <a:srgbClr val="94006b"/>
                </a:solidFill>
                <a:uFillTx/>
                <a:latin typeface="DejaVu Sans Light"/>
              </a:rPr>
              <a:t>Lysabild-Chur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2000"/>
              </a:lnSpc>
              <a:spcAft>
                <a:spcPts val="1426"/>
              </a:spcAft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a-DK" sz="2800" spc="-1" strike="noStrike">
                <a:solidFill>
                  <a:srgbClr val="00ff00"/>
                </a:solidFill>
                <a:latin typeface="Candara"/>
              </a:rPr>
              <a:t>Lysabild church called St. Michaels Church, is a large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ff0000"/>
                </a:solidFill>
                <a:latin typeface="Candara"/>
              </a:rPr>
              <a:t>and old church, which dates back to approx. 1100 figure.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00ff00"/>
                </a:solidFill>
                <a:latin typeface="Candara"/>
              </a:rPr>
              <a:t>The name has been given after a saint, but it is back to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ff0000"/>
                </a:solidFill>
                <a:latin typeface="Candara"/>
              </a:rPr>
              <a:t>the Catholic time. It was for many years pilgrimage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00ff00"/>
                </a:solidFill>
                <a:latin typeface="Candara"/>
              </a:rPr>
              <a:t>church, but was later superseded by Nordborg. The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ff0000"/>
                </a:solidFill>
                <a:latin typeface="Candara"/>
              </a:rPr>
              <a:t>Church has 500 seats and it thus among the 5 largest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00ff00"/>
                </a:solidFill>
                <a:latin typeface="Candara"/>
              </a:rPr>
              <a:t>villagge churches in Denmark. Lysabild Church is the</a:t>
            </a:r>
            <a:r>
              <a:rPr b="1" i="1" lang="da-DK" sz="2800" spc="-1" strike="noStrike">
                <a:solidFill>
                  <a:srgbClr val="ff00ff"/>
                </a:solidFill>
                <a:latin typeface="Candara"/>
              </a:rPr>
              <a:t> </a:t>
            </a:r>
            <a:r>
              <a:rPr b="1" i="1" lang="da-DK" sz="2800" spc="-1" strike="noStrike">
                <a:solidFill>
                  <a:srgbClr val="ff0000"/>
                </a:solidFill>
                <a:latin typeface="Candara"/>
              </a:rPr>
              <a:t>oldest on Als.</a:t>
            </a:r>
            <a:r>
              <a:rPr b="0" lang="da-DK" sz="32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a-DK" sz="2600" spc="-1" strike="noStrike">
                <a:solidFill>
                  <a:srgbClr val="9966cc"/>
                </a:solidFill>
                <a:latin typeface="Comic Sans MS"/>
              </a:rPr>
              <a:t>This is the stair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a-DK" sz="2600" spc="-1" strike="noStrike">
                <a:solidFill>
                  <a:srgbClr val="9966cc"/>
                </a:solidFill>
                <a:latin typeface="Comic Sans MS"/>
              </a:rPr>
              <a:t> </a:t>
            </a:r>
            <a:r>
              <a:rPr b="1" i="1" lang="da-DK" sz="2600" spc="-1" strike="noStrike">
                <a:solidFill>
                  <a:srgbClr val="9966cc"/>
                </a:solidFill>
                <a:latin typeface="Comic Sans MS"/>
              </a:rPr>
              <a:t>to the organ</a:t>
            </a:r>
            <a:r>
              <a:rPr b="1" lang="da-DK" sz="2000" spc="-1" strike="noStrike">
                <a:solidFill>
                  <a:srgbClr val="99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e6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2879640"/>
            <a:ext cx="5580000" cy="468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40360" y="5580000"/>
            <a:ext cx="2519280" cy="900000"/>
          </a:xfrm>
          <a:custGeom>
            <a:avLst/>
            <a:gdLst>
              <a:gd name="textAreaLeft" fmla="*/ 466560 w 2519280"/>
              <a:gd name="textAreaRight" fmla="*/ 2443680 w 2519280"/>
              <a:gd name="textAreaTop" fmla="*/ 419040 h 900000"/>
              <a:gd name="textAreaBottom" fmla="*/ 480960 h 900000"/>
            </a:gdLst>
            <a:ahLst/>
            <a:rect l="textAreaLeft" t="textAreaTop" r="textAreaRight" b="textAreaBottom"/>
            <a:pathLst>
              <a:path w="21600" h="21800">
                <a:moveTo>
                  <a:pt x="12160" y="0"/>
                </a:moveTo>
                <a:lnTo>
                  <a:pt x="21600" y="10800"/>
                </a:lnTo>
                <a:lnTo>
                  <a:pt x="12160" y="21800"/>
                </a:lnTo>
                <a:lnTo>
                  <a:pt x="12160" y="11542"/>
                </a:lnTo>
                <a:lnTo>
                  <a:pt x="4000" y="11542"/>
                </a:lnTo>
                <a:lnTo>
                  <a:pt x="4000" y="10058"/>
                </a:lnTo>
                <a:lnTo>
                  <a:pt x="12160" y="10058"/>
                </a:lnTo>
                <a:lnTo>
                  <a:pt x="12160" y="0"/>
                </a:lnTo>
                <a:moveTo>
                  <a:pt x="0" y="10058"/>
                </a:moveTo>
                <a:lnTo>
                  <a:pt x="0" y="11542"/>
                </a:lnTo>
                <a:lnTo>
                  <a:pt x="1000" y="11542"/>
                </a:lnTo>
                <a:lnTo>
                  <a:pt x="1000" y="10058"/>
                </a:lnTo>
                <a:lnTo>
                  <a:pt x="0" y="10058"/>
                </a:lnTo>
                <a:moveTo>
                  <a:pt x="2000" y="10058"/>
                </a:moveTo>
                <a:lnTo>
                  <a:pt x="2000" y="11542"/>
                </a:lnTo>
                <a:lnTo>
                  <a:pt x="3000" y="11542"/>
                </a:lnTo>
                <a:lnTo>
                  <a:pt x="3000" y="10058"/>
                </a:lnTo>
                <a:lnTo>
                  <a:pt x="2000" y="10058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600" spc="-1" strike="noStrike">
                <a:solidFill>
                  <a:srgbClr val="0066cc"/>
                </a:solidFill>
                <a:latin typeface="Comic Sans MS"/>
              </a:rPr>
              <a:t>This is Lysabild alt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000"/>
            <a:ext cx="10080720" cy="611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19640" y="720720"/>
            <a:ext cx="720720" cy="1260360"/>
          </a:xfrm>
          <a:prstGeom prst="downArrow">
            <a:avLst>
              <a:gd name="adj1" fmla="val 50000"/>
              <a:gd name="adj2" fmla="val 43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663480"/>
            <a:ext cx="1008072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3200" spc="-1" strike="noStrike">
                <a:solidFill>
                  <a:srgbClr val="ff00ff"/>
                </a:solidFill>
                <a:latin typeface="Arial"/>
              </a:rPr>
              <a:t>The tower was built in 1400 century in late Gothic style, and there are 2 bells ringing with automatic. It is 80 feet high and as such as a beacon for ships at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Arial"/>
              </a:rPr>
              <a:t>The T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7920000" cy="540072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8:08:38Z</dcterms:created>
  <dc:creator/>
  <dc:description/>
  <dc:language>en-US</dc:language>
  <cp:lastModifiedBy/>
  <dcterms:modified xsi:type="dcterms:W3CDTF">2010-06-23T07:51:05Z</dcterms:modified>
  <cp:revision>16</cp:revision>
  <dc:subject/>
  <dc:title/>
</cp:coreProperties>
</file>